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8.jpeg" ContentType="image/jpeg"/>
  <Override PartName="/ppt/media/image9.wmf" ContentType="image/x-wmf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602D-6EC2-46C0-A95A-8E3CB328C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812A-EFE3-4B76-A50F-16DB9F6A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5EEC-EE92-4E4D-9F87-8C5581E7C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4D8F-EC7F-4642-A951-9F116BDF0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429C-E714-4843-8DCC-CDCD7428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D45E-02F0-4971-A798-99DD6ECC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5BA1-77C9-44A1-BD48-7C80F3D3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8C55-72A8-4CCF-8698-A59CDE37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2B52-5BE5-4196-A9BB-8E386376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A863-C1DB-494D-AA19-F25AC9BB0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AFAF-5E26-40A1-9020-BD02586C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51A1-BCF6-42E3-A11C-8B784A01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776E-C564-4C48-95D8-757364C7E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wmf"/><Relationship Id="rId10" Type="http://schemas.openxmlformats.org/officeDocument/2006/relationships/image" Target="../media/image9.wmf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5.png"/><Relationship Id="rId14" Type="http://schemas.openxmlformats.org/officeDocument/2006/relationships/image" Target="../media/image11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8440" y="495360"/>
            <a:ext cx="8521560" cy="6238800"/>
          </a:xfrm>
          <a:custGeom>
            <a:avLst/>
            <a:gdLst/>
            <a:ahLst/>
            <a:rect l="l" t="t" r="r" b="b"/>
            <a:pathLst>
              <a:path w="5368" h="3930">
                <a:moveTo>
                  <a:pt x="5368" y="0"/>
                </a:moveTo>
                <a:lnTo>
                  <a:pt x="5368" y="3930"/>
                </a:lnTo>
                <a:lnTo>
                  <a:pt x="2578" y="3927"/>
                </a:lnTo>
                <a:lnTo>
                  <a:pt x="5" y="3927"/>
                </a:lnTo>
                <a:lnTo>
                  <a:pt x="0" y="7"/>
                </a:lnTo>
                <a:lnTo>
                  <a:pt x="5368" y="0"/>
                </a:lnTo>
                <a:close/>
              </a:path>
            </a:pathLst>
          </a:custGeom>
          <a:solidFill>
            <a:srgbClr val="ccffcc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65400" y="1968480"/>
            <a:ext cx="1792080" cy="2139840"/>
          </a:xfrm>
          <a:custGeom>
            <a:avLst/>
            <a:gdLst/>
            <a:ahLst/>
            <a:rect l="l" t="t" r="r" b="b"/>
            <a:pathLst>
              <a:path w="826" h="868">
                <a:moveTo>
                  <a:pt x="0" y="0"/>
                </a:moveTo>
                <a:lnTo>
                  <a:pt x="826" y="0"/>
                </a:lnTo>
                <a:lnTo>
                  <a:pt x="826" y="868"/>
                </a:lnTo>
                <a:lnTo>
                  <a:pt x="6" y="868"/>
                </a:lnTo>
                <a:lnTo>
                  <a:pt x="0" y="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9880" y="488880"/>
            <a:ext cx="3222720" cy="1484280"/>
          </a:xfrm>
          <a:prstGeom prst="rect">
            <a:avLst/>
          </a:prstGeom>
          <a:solidFill>
            <a:srgbClr val="d1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653160" y="4191120"/>
            <a:ext cx="1457280" cy="2381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67120" y="443700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6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51240" y="5545080"/>
            <a:ext cx="36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67480" y="2911320"/>
            <a:ext cx="0" cy="119412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9400" y="348948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6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76840" y="2911320"/>
            <a:ext cx="0" cy="119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17080" y="3664080"/>
            <a:ext cx="45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473520" y="2908440"/>
            <a:ext cx="4680" cy="119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2360" y="781200"/>
            <a:ext cx="10386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tant Haw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WALF EO Imager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9800" y="4143240"/>
            <a:ext cx="8089920" cy="0"/>
          </a:xfrm>
          <a:prstGeom prst="line">
            <a:avLst/>
          </a:prstGeom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43240" y="3095640"/>
            <a:ext cx="352440" cy="428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22520" y="3533760"/>
            <a:ext cx="0" cy="5716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9200" y="4159080"/>
            <a:ext cx="141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66"/>
                </a:solidFill>
                <a:latin typeface="Arial"/>
              </a:rPr>
              <a:t>CFE (SECRET/4 EY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509920" y="4179960"/>
            <a:ext cx="9360" cy="9604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http://www.richard-seaman.com/Aircraft/AirShows/Nellis2006/Highlights/index.html"/>
          <p:cNvPicPr/>
          <p:nvPr/>
        </p:nvPicPr>
        <p:blipFill>
          <a:blip r:embed="rId2"/>
          <a:srcRect l="4465" t="0" r="0" b="8725"/>
          <a:stretch/>
        </p:blipFill>
        <p:spPr>
          <a:xfrm>
            <a:off x="4983120" y="928800"/>
            <a:ext cx="847800" cy="581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761720" y="612720"/>
            <a:ext cx="13208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dator (surrog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AR/MTI, NFOV Vide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884480" y="1520640"/>
            <a:ext cx="343440" cy="612720"/>
            <a:chOff x="4884480" y="1520640"/>
            <a:chExt cx="343440" cy="612720"/>
          </a:xfrm>
        </p:grpSpPr>
        <p:sp>
          <p:nvSpPr>
            <p:cNvPr id="61" name=""/>
            <p:cNvSpPr/>
            <p:nvPr/>
          </p:nvSpPr>
          <p:spPr>
            <a:xfrm flipV="1">
              <a:off x="5014800" y="1520640"/>
              <a:ext cx="213120" cy="3330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5014800" y="1800720"/>
              <a:ext cx="82440" cy="525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4884480" y="1800720"/>
              <a:ext cx="213120" cy="3326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" descr="U-2 Dragon Lady"/>
          <p:cNvPicPr/>
          <p:nvPr/>
        </p:nvPicPr>
        <p:blipFill>
          <a:blip r:embed="rId3"/>
          <a:stretch/>
        </p:blipFill>
        <p:spPr>
          <a:xfrm>
            <a:off x="6816600" y="1015920"/>
            <a:ext cx="903240" cy="622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242840" y="1593720"/>
            <a:ext cx="897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obal Haw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O Imager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rcRect l="1887" t="0" r="2268" b="0"/>
          <a:stretch/>
        </p:blipFill>
        <p:spPr>
          <a:xfrm>
            <a:off x="7311960" y="633240"/>
            <a:ext cx="846360" cy="57960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6594480" y="1652040"/>
            <a:ext cx="315720" cy="480960"/>
            <a:chOff x="6594480" y="1652040"/>
            <a:chExt cx="315720" cy="480960"/>
          </a:xfrm>
        </p:grpSpPr>
        <p:sp>
          <p:nvSpPr>
            <p:cNvPr id="68" name=""/>
            <p:cNvSpPr/>
            <p:nvPr/>
          </p:nvSpPr>
          <p:spPr>
            <a:xfrm flipV="1">
              <a:off x="6715440" y="1652040"/>
              <a:ext cx="194760" cy="2617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6715440" y="1870920"/>
              <a:ext cx="73440" cy="424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6594480" y="1871280"/>
              <a:ext cx="195120" cy="2617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3652920" y="4572000"/>
            <a:ext cx="4824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 Req’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rcRect l="0" t="0" r="0" b="25891"/>
          <a:stretch/>
        </p:blipFill>
        <p:spPr>
          <a:xfrm>
            <a:off x="4865760" y="5132520"/>
            <a:ext cx="704880" cy="9954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 flipH="1">
            <a:off x="5065560" y="4179960"/>
            <a:ext cx="5040" cy="9651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15200" y="443700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6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89400" y="6126120"/>
            <a:ext cx="726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nuiViewer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Pixia Plug-ins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5226120" y="4175280"/>
            <a:ext cx="0" cy="97128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67200" y="2911320"/>
            <a:ext cx="0" cy="119412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3165120" y="3395520"/>
            <a:ext cx="3240" cy="70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692440" y="3395520"/>
            <a:ext cx="47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660400" y="4179960"/>
            <a:ext cx="14040" cy="957240"/>
          </a:xfrm>
          <a:prstGeom prst="line">
            <a:avLst/>
          </a:prstGeom>
          <a:ln w="93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7137000" y="4175280"/>
            <a:ext cx="4680" cy="9651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96360" y="4437000"/>
            <a:ext cx="4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6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7303680" y="4176360"/>
            <a:ext cx="3240" cy="95580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6"/>
          <a:srcRect l="2605" t="2299" r="4690" b="3822"/>
          <a:stretch/>
        </p:blipFill>
        <p:spPr>
          <a:xfrm>
            <a:off x="363600" y="1103400"/>
            <a:ext cx="847800" cy="584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076840" y="139680"/>
            <a:ext cx="519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LOE Architecture/Data Flow (Rev 5, 5 Aug 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4584600" y="2224080"/>
            <a:ext cx="455400" cy="687240"/>
            <a:chOff x="4584600" y="2224080"/>
            <a:chExt cx="455400" cy="687240"/>
          </a:xfrm>
        </p:grpSpPr>
        <p:grpSp>
          <p:nvGrpSpPr>
            <p:cNvPr id="87" name=""/>
            <p:cNvGrpSpPr/>
            <p:nvPr/>
          </p:nvGrpSpPr>
          <p:grpSpPr>
            <a:xfrm>
              <a:off x="4584960" y="2224080"/>
              <a:ext cx="455040" cy="246240"/>
              <a:chOff x="4584960" y="2224080"/>
              <a:chExt cx="455040" cy="246240"/>
            </a:xfrm>
          </p:grpSpPr>
          <p:sp>
            <p:nvSpPr>
              <p:cNvPr id="88" name=""/>
              <p:cNvSpPr/>
              <p:nvPr/>
            </p:nvSpPr>
            <p:spPr>
              <a:xfrm>
                <a:off x="4629240" y="2241360"/>
                <a:ext cx="368280" cy="228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584960" y="222408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C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4584600" y="2665080"/>
              <a:ext cx="441360" cy="246240"/>
              <a:chOff x="4584600" y="2665080"/>
              <a:chExt cx="441360" cy="246240"/>
            </a:xfrm>
          </p:grpSpPr>
          <p:sp>
            <p:nvSpPr>
              <p:cNvPr id="91" name=""/>
              <p:cNvSpPr/>
              <p:nvPr/>
            </p:nvSpPr>
            <p:spPr>
              <a:xfrm>
                <a:off x="4629240" y="2682360"/>
                <a:ext cx="368280" cy="228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584600" y="2665080"/>
                <a:ext cx="441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>
              <a:off x="4829040" y="2466720"/>
              <a:ext cx="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286320" y="2224080"/>
            <a:ext cx="455400" cy="687240"/>
            <a:chOff x="6286320" y="2224080"/>
            <a:chExt cx="455400" cy="687240"/>
          </a:xfrm>
        </p:grpSpPr>
        <p:grpSp>
          <p:nvGrpSpPr>
            <p:cNvPr id="95" name=""/>
            <p:cNvGrpSpPr/>
            <p:nvPr/>
          </p:nvGrpSpPr>
          <p:grpSpPr>
            <a:xfrm>
              <a:off x="6286680" y="2224080"/>
              <a:ext cx="455040" cy="246240"/>
              <a:chOff x="6286680" y="2224080"/>
              <a:chExt cx="455040" cy="246240"/>
            </a:xfrm>
          </p:grpSpPr>
          <p:sp>
            <p:nvSpPr>
              <p:cNvPr id="96" name=""/>
              <p:cNvSpPr/>
              <p:nvPr/>
            </p:nvSpPr>
            <p:spPr>
              <a:xfrm>
                <a:off x="6330960" y="2241360"/>
                <a:ext cx="368280" cy="228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286680" y="222408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C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6286320" y="2665080"/>
              <a:ext cx="441360" cy="246240"/>
              <a:chOff x="6286320" y="2665080"/>
              <a:chExt cx="441360" cy="246240"/>
            </a:xfrm>
          </p:grpSpPr>
          <p:sp>
            <p:nvSpPr>
              <p:cNvPr id="99" name=""/>
              <p:cNvSpPr/>
              <p:nvPr/>
            </p:nvSpPr>
            <p:spPr>
              <a:xfrm>
                <a:off x="6330960" y="2682360"/>
                <a:ext cx="368280" cy="2286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286320" y="2665080"/>
                <a:ext cx="441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6530760" y="2466720"/>
              <a:ext cx="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1784520" y="5143680"/>
            <a:ext cx="1741320" cy="799920"/>
            <a:chOff x="1784520" y="5143680"/>
            <a:chExt cx="1741320" cy="799920"/>
          </a:xfrm>
        </p:grpSpPr>
        <p:sp>
          <p:nvSpPr>
            <p:cNvPr id="103" name=""/>
            <p:cNvSpPr/>
            <p:nvPr/>
          </p:nvSpPr>
          <p:spPr>
            <a:xfrm>
              <a:off x="1784520" y="5143680"/>
              <a:ext cx="17413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7"/>
            <a:stretch/>
          </p:blipFill>
          <p:spPr>
            <a:xfrm>
              <a:off x="1809720" y="5168880"/>
              <a:ext cx="1667160" cy="4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2141280" y="5624640"/>
              <a:ext cx="57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ST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37360" y="5624640"/>
              <a:ext cx="68364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990000"/>
                  </a:solidFill>
                  <a:latin typeface="Arial"/>
                </a:rPr>
                <a:t>nuiViewer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990000"/>
                  </a:solidFill>
                  <a:latin typeface="Arial"/>
                </a:rPr>
                <a:t>Pixia Plug-in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636640" y="3119400"/>
            <a:ext cx="3819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Isil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Sto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8440" y="488880"/>
            <a:ext cx="8548560" cy="6245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68600" y="1015920"/>
            <a:ext cx="0" cy="3240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66400" y="976320"/>
            <a:ext cx="6105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ost-fligh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ta Offloa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539720" y="1227240"/>
            <a:ext cx="517320" cy="390600"/>
            <a:chOff x="1539720" y="1227240"/>
            <a:chExt cx="517320" cy="390600"/>
          </a:xfrm>
        </p:grpSpPr>
        <p:pic>
          <p:nvPicPr>
            <p:cNvPr id="112" name="" descr=""/>
            <p:cNvPicPr/>
            <p:nvPr/>
          </p:nvPicPr>
          <p:blipFill>
            <a:blip r:embed="rId8"/>
            <a:srcRect l="2110" t="56824" r="85913" b="31906"/>
            <a:stretch/>
          </p:blipFill>
          <p:spPr>
            <a:xfrm>
              <a:off x="1544400" y="1227240"/>
              <a:ext cx="51264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545840" y="1228680"/>
              <a:ext cx="507960" cy="88920"/>
            </a:xfrm>
            <a:custGeom>
              <a:avLst/>
              <a:gdLst/>
              <a:ahLst/>
              <a:rect l="l" t="t" r="r" b="b"/>
              <a:pathLst>
                <a:path w="320" h="56">
                  <a:moveTo>
                    <a:pt x="0" y="28"/>
                  </a:moveTo>
                  <a:lnTo>
                    <a:pt x="129" y="26"/>
                  </a:lnTo>
                  <a:lnTo>
                    <a:pt x="189" y="54"/>
                  </a:lnTo>
                  <a:lnTo>
                    <a:pt x="233" y="36"/>
                  </a:lnTo>
                  <a:lnTo>
                    <a:pt x="276" y="56"/>
                  </a:lnTo>
                  <a:lnTo>
                    <a:pt x="320" y="56"/>
                  </a:lnTo>
                  <a:lnTo>
                    <a:pt x="318" y="0"/>
                  </a:lnTo>
                  <a:lnTo>
                    <a:pt x="4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39720" y="1228680"/>
              <a:ext cx="517320" cy="362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04600" y="1449360"/>
              <a:ext cx="18432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2784240" y="4179960"/>
            <a:ext cx="14040" cy="95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335560" y="4181400"/>
            <a:ext cx="14400" cy="96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7410240" y="4176720"/>
            <a:ext cx="14040" cy="95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27600" y="3479760"/>
            <a:ext cx="47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6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28680" y="1380960"/>
            <a:ext cx="295200" cy="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327040" y="736560"/>
            <a:ext cx="441360" cy="246240"/>
            <a:chOff x="2327040" y="736560"/>
            <a:chExt cx="441360" cy="246240"/>
          </a:xfrm>
        </p:grpSpPr>
        <p:sp>
          <p:nvSpPr>
            <p:cNvPr id="122" name=""/>
            <p:cNvSpPr/>
            <p:nvPr/>
          </p:nvSpPr>
          <p:spPr>
            <a:xfrm>
              <a:off x="2371680" y="753840"/>
              <a:ext cx="368280" cy="22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27040" y="736560"/>
              <a:ext cx="441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 flipV="1">
            <a:off x="2085840" y="1009440"/>
            <a:ext cx="260640" cy="19980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01960" y="519120"/>
            <a:ext cx="42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T/L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84960" y="992160"/>
            <a:ext cx="36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989800" y="522360"/>
            <a:ext cx="54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cess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9880" y="2933640"/>
            <a:ext cx="0" cy="11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2" descr="MCj03000550000[1]"/>
          <p:cNvPicPr/>
          <p:nvPr/>
        </p:nvPicPr>
        <p:blipFill>
          <a:blip r:embed="rId9"/>
          <a:stretch/>
        </p:blipFill>
        <p:spPr>
          <a:xfrm>
            <a:off x="3106800" y="795240"/>
            <a:ext cx="301680" cy="1684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790720" y="828720"/>
            <a:ext cx="2955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51760" y="1320840"/>
            <a:ext cx="5418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cess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2" descr="MCj03000550000[1]"/>
          <p:cNvPicPr/>
          <p:nvPr/>
        </p:nvPicPr>
        <p:blipFill>
          <a:blip r:embed="rId10"/>
          <a:stretch/>
        </p:blipFill>
        <p:spPr>
          <a:xfrm>
            <a:off x="2406600" y="1380960"/>
            <a:ext cx="301680" cy="16848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1755720" y="3076560"/>
            <a:ext cx="666360" cy="519120"/>
            <a:chOff x="1755720" y="3076560"/>
            <a:chExt cx="666360" cy="519120"/>
          </a:xfrm>
        </p:grpSpPr>
        <p:grpSp>
          <p:nvGrpSpPr>
            <p:cNvPr id="134" name=""/>
            <p:cNvGrpSpPr/>
            <p:nvPr/>
          </p:nvGrpSpPr>
          <p:grpSpPr>
            <a:xfrm>
              <a:off x="1763640" y="3110040"/>
              <a:ext cx="390600" cy="476280"/>
              <a:chOff x="1763640" y="3110040"/>
              <a:chExt cx="390600" cy="476280"/>
            </a:xfrm>
          </p:grpSpPr>
          <p:pic>
            <p:nvPicPr>
              <p:cNvPr id="13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1763640" y="3110040"/>
                <a:ext cx="390600" cy="47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" name=""/>
              <p:cNvSpPr/>
              <p:nvPr/>
            </p:nvSpPr>
            <p:spPr>
              <a:xfrm>
                <a:off x="1763640" y="3456000"/>
                <a:ext cx="133560" cy="11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1755720" y="3076560"/>
              <a:ext cx="666360" cy="519120"/>
              <a:chOff x="1755720" y="3076560"/>
              <a:chExt cx="666360" cy="51912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1755720" y="3100320"/>
                <a:ext cx="406080" cy="495360"/>
                <a:chOff x="1755720" y="3100320"/>
                <a:chExt cx="406080" cy="4953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755720" y="3100320"/>
                  <a:ext cx="406080" cy="314280"/>
                </a:xfrm>
                <a:custGeom>
                  <a:avLst/>
                  <a:gdLst/>
                  <a:ahLst/>
                  <a:rect l="l" t="t" r="r" b="b"/>
                  <a:pathLst>
                    <a:path w="256" h="198">
                      <a:moveTo>
                        <a:pt x="4" y="198"/>
                      </a:moveTo>
                      <a:lnTo>
                        <a:pt x="75" y="198"/>
                      </a:lnTo>
                      <a:lnTo>
                        <a:pt x="75" y="71"/>
                      </a:lnTo>
                      <a:lnTo>
                        <a:pt x="136" y="33"/>
                      </a:lnTo>
                      <a:lnTo>
                        <a:pt x="187" y="74"/>
                      </a:lnTo>
                      <a:lnTo>
                        <a:pt x="187" y="194"/>
                      </a:lnTo>
                      <a:lnTo>
                        <a:pt x="255" y="194"/>
                      </a:lnTo>
                      <a:lnTo>
                        <a:pt x="256" y="0"/>
                      </a:lnTo>
                      <a:lnTo>
                        <a:pt x="0" y="2"/>
                      </a:lnTo>
                      <a:lnTo>
                        <a:pt x="4" y="198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757160" y="3398760"/>
                  <a:ext cx="402840" cy="196920"/>
                </a:xfrm>
                <a:custGeom>
                  <a:avLst/>
                  <a:gdLst/>
                  <a:ahLst/>
                  <a:rect l="l" t="t" r="r" b="b"/>
                  <a:pathLst>
                    <a:path w="254" h="124">
                      <a:moveTo>
                        <a:pt x="3" y="0"/>
                      </a:moveTo>
                      <a:lnTo>
                        <a:pt x="75" y="9"/>
                      </a:lnTo>
                      <a:lnTo>
                        <a:pt x="129" y="46"/>
                      </a:lnTo>
                      <a:lnTo>
                        <a:pt x="189" y="3"/>
                      </a:lnTo>
                      <a:lnTo>
                        <a:pt x="254" y="3"/>
                      </a:lnTo>
                      <a:lnTo>
                        <a:pt x="254" y="123"/>
                      </a:lnTo>
                      <a:lnTo>
                        <a:pt x="0" y="12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" name=""/>
              <p:cNvSpPr/>
              <p:nvPr/>
            </p:nvSpPr>
            <p:spPr>
              <a:xfrm>
                <a:off x="2271600" y="3076560"/>
                <a:ext cx="150480" cy="123840"/>
              </a:xfrm>
              <a:custGeom>
                <a:avLst/>
                <a:gdLst/>
                <a:ahLst/>
                <a:rect l="l" t="t" r="r" b="b"/>
                <a:pathLst>
                  <a:path w="95" h="78">
                    <a:moveTo>
                      <a:pt x="95" y="2"/>
                    </a:moveTo>
                    <a:lnTo>
                      <a:pt x="0" y="78"/>
                    </a:lnTo>
                    <a:lnTo>
                      <a:pt x="0" y="0"/>
                    </a:lnTo>
                    <a:lnTo>
                      <a:pt x="95" y="2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" name=""/>
          <p:cNvGrpSpPr/>
          <p:nvPr/>
        </p:nvGrpSpPr>
        <p:grpSpPr>
          <a:xfrm>
            <a:off x="1560600" y="2071800"/>
            <a:ext cx="666360" cy="519120"/>
            <a:chOff x="1560600" y="2071800"/>
            <a:chExt cx="666360" cy="519120"/>
          </a:xfrm>
        </p:grpSpPr>
        <p:grpSp>
          <p:nvGrpSpPr>
            <p:cNvPr id="143" name=""/>
            <p:cNvGrpSpPr/>
            <p:nvPr/>
          </p:nvGrpSpPr>
          <p:grpSpPr>
            <a:xfrm>
              <a:off x="1573200" y="2104920"/>
              <a:ext cx="390600" cy="476280"/>
              <a:chOff x="1573200" y="2104920"/>
              <a:chExt cx="390600" cy="476280"/>
            </a:xfrm>
          </p:grpSpPr>
          <p:pic>
            <p:nvPicPr>
              <p:cNvPr id="14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1573200" y="2104920"/>
                <a:ext cx="390600" cy="47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1573200" y="2450880"/>
                <a:ext cx="133560" cy="11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1560600" y="2071800"/>
              <a:ext cx="666360" cy="519120"/>
              <a:chOff x="1560600" y="2071800"/>
              <a:chExt cx="666360" cy="51912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1560600" y="2095560"/>
                <a:ext cx="406080" cy="495360"/>
                <a:chOff x="1560600" y="2095560"/>
                <a:chExt cx="406080" cy="4953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560600" y="2095560"/>
                  <a:ext cx="406080" cy="314280"/>
                </a:xfrm>
                <a:custGeom>
                  <a:avLst/>
                  <a:gdLst/>
                  <a:ahLst/>
                  <a:rect l="l" t="t" r="r" b="b"/>
                  <a:pathLst>
                    <a:path w="256" h="198">
                      <a:moveTo>
                        <a:pt x="4" y="198"/>
                      </a:moveTo>
                      <a:lnTo>
                        <a:pt x="75" y="198"/>
                      </a:lnTo>
                      <a:lnTo>
                        <a:pt x="75" y="71"/>
                      </a:lnTo>
                      <a:lnTo>
                        <a:pt x="136" y="33"/>
                      </a:lnTo>
                      <a:lnTo>
                        <a:pt x="187" y="74"/>
                      </a:lnTo>
                      <a:lnTo>
                        <a:pt x="187" y="194"/>
                      </a:lnTo>
                      <a:lnTo>
                        <a:pt x="255" y="194"/>
                      </a:lnTo>
                      <a:lnTo>
                        <a:pt x="256" y="0"/>
                      </a:lnTo>
                      <a:lnTo>
                        <a:pt x="0" y="2"/>
                      </a:lnTo>
                      <a:lnTo>
                        <a:pt x="4" y="198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562040" y="2394000"/>
                  <a:ext cx="402840" cy="196920"/>
                </a:xfrm>
                <a:custGeom>
                  <a:avLst/>
                  <a:gdLst/>
                  <a:ahLst/>
                  <a:rect l="l" t="t" r="r" b="b"/>
                  <a:pathLst>
                    <a:path w="254" h="124">
                      <a:moveTo>
                        <a:pt x="3" y="0"/>
                      </a:moveTo>
                      <a:lnTo>
                        <a:pt x="75" y="9"/>
                      </a:lnTo>
                      <a:lnTo>
                        <a:pt x="129" y="46"/>
                      </a:lnTo>
                      <a:lnTo>
                        <a:pt x="189" y="3"/>
                      </a:lnTo>
                      <a:lnTo>
                        <a:pt x="254" y="3"/>
                      </a:lnTo>
                      <a:lnTo>
                        <a:pt x="254" y="123"/>
                      </a:lnTo>
                      <a:lnTo>
                        <a:pt x="0" y="124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"/>
              <p:cNvSpPr/>
              <p:nvPr/>
            </p:nvSpPr>
            <p:spPr>
              <a:xfrm>
                <a:off x="2076480" y="2071800"/>
                <a:ext cx="150480" cy="123840"/>
              </a:xfrm>
              <a:custGeom>
                <a:avLst/>
                <a:gdLst/>
                <a:ahLst/>
                <a:rect l="l" t="t" r="r" b="b"/>
                <a:pathLst>
                  <a:path w="95" h="78">
                    <a:moveTo>
                      <a:pt x="95" y="2"/>
                    </a:moveTo>
                    <a:lnTo>
                      <a:pt x="0" y="78"/>
                    </a:lnTo>
                    <a:lnTo>
                      <a:pt x="0" y="0"/>
                    </a:lnTo>
                    <a:lnTo>
                      <a:pt x="95" y="2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"/>
          <p:cNvSpPr/>
          <p:nvPr/>
        </p:nvSpPr>
        <p:spPr>
          <a:xfrm>
            <a:off x="1265760" y="2309760"/>
            <a:ext cx="554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Pixi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Processo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910800" y="1781280"/>
            <a:ext cx="1035360" cy="1390680"/>
            <a:chOff x="910800" y="1781280"/>
            <a:chExt cx="1035360" cy="1390680"/>
          </a:xfrm>
        </p:grpSpPr>
        <p:sp>
          <p:nvSpPr>
            <p:cNvPr id="153" name=""/>
            <p:cNvSpPr/>
            <p:nvPr/>
          </p:nvSpPr>
          <p:spPr>
            <a:xfrm flipH="1">
              <a:off x="910800" y="1781280"/>
              <a:ext cx="4680" cy="790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76240" y="2455920"/>
              <a:ext cx="169920" cy="71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003760" y="3216240"/>
            <a:ext cx="304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63880" y="3265560"/>
            <a:ext cx="27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83560" y="3297240"/>
            <a:ext cx="487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Pixia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Encod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73360" y="1654200"/>
            <a:ext cx="0" cy="461880"/>
          </a:xfrm>
          <a:prstGeom prst="line">
            <a:avLst/>
          </a:prstGeom>
          <a:ln cap="rnd" w="22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776240"/>
            <a:ext cx="1679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90920" y="1590840"/>
            <a:ext cx="0" cy="185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985320" y="2286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57240" y="2290680"/>
            <a:ext cx="65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500200" y="2295360"/>
            <a:ext cx="14400" cy="83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6200" y="2933640"/>
            <a:ext cx="290520" cy="142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23440" y="280044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3800" y="280512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241360" y="3749760"/>
            <a:ext cx="244800" cy="231120"/>
            <a:chOff x="2241360" y="3749760"/>
            <a:chExt cx="244800" cy="231120"/>
          </a:xfrm>
        </p:grpSpPr>
        <p:sp>
          <p:nvSpPr>
            <p:cNvPr id="168" name=""/>
            <p:cNvSpPr/>
            <p:nvPr/>
          </p:nvSpPr>
          <p:spPr>
            <a:xfrm>
              <a:off x="2292480" y="3791160"/>
              <a:ext cx="14760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41360" y="37497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495520" y="2782800"/>
            <a:ext cx="244800" cy="231120"/>
            <a:chOff x="2495520" y="2782800"/>
            <a:chExt cx="244800" cy="231120"/>
          </a:xfrm>
        </p:grpSpPr>
        <p:sp>
          <p:nvSpPr>
            <p:cNvPr id="171" name=""/>
            <p:cNvSpPr/>
            <p:nvPr/>
          </p:nvSpPr>
          <p:spPr>
            <a:xfrm>
              <a:off x="2548080" y="2820960"/>
              <a:ext cx="14760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95520" y="27828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158840" y="2583000"/>
            <a:ext cx="244800" cy="231120"/>
            <a:chOff x="1158840" y="2583000"/>
            <a:chExt cx="244800" cy="231120"/>
          </a:xfrm>
        </p:grpSpPr>
        <p:sp>
          <p:nvSpPr>
            <p:cNvPr id="174" name=""/>
            <p:cNvSpPr/>
            <p:nvPr/>
          </p:nvSpPr>
          <p:spPr>
            <a:xfrm>
              <a:off x="1211400" y="2626200"/>
              <a:ext cx="14760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58840" y="2583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050920" y="3375000"/>
            <a:ext cx="244800" cy="231120"/>
            <a:chOff x="2050920" y="3375000"/>
            <a:chExt cx="244800" cy="231120"/>
          </a:xfrm>
        </p:grpSpPr>
        <p:sp>
          <p:nvSpPr>
            <p:cNvPr id="177" name=""/>
            <p:cNvSpPr/>
            <p:nvPr/>
          </p:nvSpPr>
          <p:spPr>
            <a:xfrm>
              <a:off x="2103480" y="3413160"/>
              <a:ext cx="14760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50920" y="33750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642600" y="2244600"/>
            <a:ext cx="244800" cy="231120"/>
            <a:chOff x="642600" y="2244600"/>
            <a:chExt cx="244800" cy="231120"/>
          </a:xfrm>
        </p:grpSpPr>
        <p:sp>
          <p:nvSpPr>
            <p:cNvPr id="180" name=""/>
            <p:cNvSpPr/>
            <p:nvPr/>
          </p:nvSpPr>
          <p:spPr>
            <a:xfrm>
              <a:off x="695160" y="2282760"/>
              <a:ext cx="14724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2600" y="224460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941040" y="2058840"/>
            <a:ext cx="244800" cy="231120"/>
            <a:chOff x="941040" y="2058840"/>
            <a:chExt cx="244800" cy="231120"/>
          </a:xfrm>
        </p:grpSpPr>
        <p:sp>
          <p:nvSpPr>
            <p:cNvPr id="183" name=""/>
            <p:cNvSpPr/>
            <p:nvPr/>
          </p:nvSpPr>
          <p:spPr>
            <a:xfrm>
              <a:off x="993600" y="2097000"/>
              <a:ext cx="14796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41040" y="205884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143000" y="2971800"/>
            <a:ext cx="14760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90440" y="29336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063880" y="3360600"/>
            <a:ext cx="27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17680" y="2868480"/>
            <a:ext cx="304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90880" y="2052720"/>
            <a:ext cx="5709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(Pixia)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21040" y="1611360"/>
            <a:ext cx="6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(MIT/L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78040" y="2571840"/>
            <a:ext cx="570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(Pixia)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7120" y="2052720"/>
            <a:ext cx="57096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(Pixia)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055600" y="3008160"/>
            <a:ext cx="244800" cy="231120"/>
            <a:chOff x="2055600" y="3008160"/>
            <a:chExt cx="244800" cy="231120"/>
          </a:xfrm>
        </p:grpSpPr>
        <p:sp>
          <p:nvSpPr>
            <p:cNvPr id="194" name=""/>
            <p:cNvSpPr/>
            <p:nvPr/>
          </p:nvSpPr>
          <p:spPr>
            <a:xfrm>
              <a:off x="2108160" y="3046320"/>
              <a:ext cx="147600" cy="152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55600" y="30081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370160" y="3106800"/>
            <a:ext cx="304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3714840" y="4172040"/>
            <a:ext cx="324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101000" y="5605560"/>
            <a:ext cx="45720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4520" y="5605560"/>
            <a:ext cx="45720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96080" y="5600880"/>
            <a:ext cx="45720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3"/>
          <a:srcRect l="0" t="61378" r="0" b="0"/>
          <a:stretch/>
        </p:blipFill>
        <p:spPr>
          <a:xfrm>
            <a:off x="4865760" y="5632560"/>
            <a:ext cx="704880" cy="519120"/>
          </a:xfrm>
          <a:prstGeom prst="rect">
            <a:avLst/>
          </a:prstGeom>
          <a:ln w="0">
            <a:noFill/>
          </a:ln>
        </p:spPr>
      </p:pic>
      <p:grpSp>
        <p:nvGrpSpPr>
          <p:cNvPr id="202" name=""/>
          <p:cNvGrpSpPr/>
          <p:nvPr/>
        </p:nvGrpSpPr>
        <p:grpSpPr>
          <a:xfrm>
            <a:off x="6966000" y="5132520"/>
            <a:ext cx="706320" cy="1014120"/>
            <a:chOff x="6966000" y="5132520"/>
            <a:chExt cx="706320" cy="1014120"/>
          </a:xfrm>
        </p:grpSpPr>
        <p:pic>
          <p:nvPicPr>
            <p:cNvPr id="203" name="" descr=""/>
            <p:cNvPicPr/>
            <p:nvPr/>
          </p:nvPicPr>
          <p:blipFill>
            <a:blip r:embed="rId14"/>
            <a:srcRect l="0" t="0" r="0" b="28168"/>
            <a:stretch/>
          </p:blipFill>
          <p:spPr>
            <a:xfrm>
              <a:off x="6967440" y="5132520"/>
              <a:ext cx="70488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15"/>
            <a:srcRect l="0" t="61378" r="0" b="0"/>
            <a:stretch/>
          </p:blipFill>
          <p:spPr>
            <a:xfrm>
              <a:off x="6966000" y="5627520"/>
              <a:ext cx="704880" cy="519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5" name=""/>
          <p:cNvGrpSpPr/>
          <p:nvPr/>
        </p:nvGrpSpPr>
        <p:grpSpPr>
          <a:xfrm>
            <a:off x="5738400" y="5106960"/>
            <a:ext cx="741240" cy="1044360"/>
            <a:chOff x="5738400" y="5106960"/>
            <a:chExt cx="741240" cy="1044360"/>
          </a:xfrm>
        </p:grpSpPr>
        <p:grpSp>
          <p:nvGrpSpPr>
            <p:cNvPr id="206" name=""/>
            <p:cNvGrpSpPr/>
            <p:nvPr/>
          </p:nvGrpSpPr>
          <p:grpSpPr>
            <a:xfrm>
              <a:off x="5775120" y="5132160"/>
              <a:ext cx="704520" cy="1019160"/>
              <a:chOff x="5775120" y="5132160"/>
              <a:chExt cx="704520" cy="1019160"/>
            </a:xfrm>
          </p:grpSpPr>
          <p:pic>
            <p:nvPicPr>
              <p:cNvPr id="207" name="" descr=""/>
              <p:cNvPicPr/>
              <p:nvPr/>
            </p:nvPicPr>
            <p:blipFill>
              <a:blip r:embed="rId16"/>
              <a:srcRect l="0" t="0" r="0" b="28732"/>
              <a:stretch/>
            </p:blipFill>
            <p:spPr>
              <a:xfrm>
                <a:off x="5775120" y="5132160"/>
                <a:ext cx="704520" cy="957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8" name="" descr=""/>
              <p:cNvPicPr/>
              <p:nvPr/>
            </p:nvPicPr>
            <p:blipFill>
              <a:blip r:embed="rId17"/>
              <a:srcRect l="0" t="61378" r="0" b="0"/>
              <a:stretch/>
            </p:blipFill>
            <p:spPr>
              <a:xfrm>
                <a:off x="5775120" y="5632200"/>
                <a:ext cx="704520" cy="519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9" name=""/>
            <p:cNvGrpSpPr/>
            <p:nvPr/>
          </p:nvGrpSpPr>
          <p:grpSpPr>
            <a:xfrm>
              <a:off x="5738400" y="5106960"/>
              <a:ext cx="718920" cy="231120"/>
              <a:chOff x="5738400" y="5106960"/>
              <a:chExt cx="718920" cy="231120"/>
            </a:xfrm>
          </p:grpSpPr>
          <p:sp>
            <p:nvSpPr>
              <p:cNvPr id="210" name=""/>
              <p:cNvSpPr/>
              <p:nvPr/>
            </p:nvSpPr>
            <p:spPr>
              <a:xfrm>
                <a:off x="5795640" y="5148360"/>
                <a:ext cx="661680" cy="15696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738400" y="5106960"/>
                <a:ext cx="441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900" spc="-1" strike="noStrike">
                    <a:solidFill>
                      <a:srgbClr val="ffffff"/>
                    </a:solidFill>
                    <a:latin typeface="Times New Roman"/>
                  </a:rPr>
                  <a:t>GSI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"/>
          <p:cNvSpPr/>
          <p:nvPr/>
        </p:nvSpPr>
        <p:spPr>
          <a:xfrm>
            <a:off x="5774760" y="6126120"/>
            <a:ext cx="726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nuiViewer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Pixia Plug-ins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870080" y="6126120"/>
            <a:ext cx="7264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nuiViewer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990000"/>
                </a:solidFill>
                <a:latin typeface="Arial"/>
              </a:rPr>
              <a:t>Pixia Plug-ins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5965560" y="4184640"/>
            <a:ext cx="4680" cy="9651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6126120" y="4179600"/>
            <a:ext cx="0" cy="97164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235560" y="4186080"/>
            <a:ext cx="14400" cy="966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05600" y="54039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23480" y="5100480"/>
            <a:ext cx="759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 Rm 4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465920" y="1817640"/>
            <a:ext cx="368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76320" y="2922480"/>
            <a:ext cx="0" cy="83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77760" y="3755880"/>
            <a:ext cx="1473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451240" y="3516120"/>
            <a:ext cx="0" cy="23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1959120" y="3466800"/>
            <a:ext cx="0" cy="28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74640" y="2679840"/>
            <a:ext cx="414000" cy="246240"/>
            <a:chOff x="674640" y="2679840"/>
            <a:chExt cx="414000" cy="246240"/>
          </a:xfrm>
        </p:grpSpPr>
        <p:sp>
          <p:nvSpPr>
            <p:cNvPr id="225" name=""/>
            <p:cNvSpPr/>
            <p:nvPr/>
          </p:nvSpPr>
          <p:spPr>
            <a:xfrm>
              <a:off x="718920" y="2697120"/>
              <a:ext cx="367920" cy="228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4640" y="2679840"/>
              <a:ext cx="41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rv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372680" y="3597120"/>
            <a:ext cx="645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(MIT/LL)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1128600" y="2847600"/>
            <a:ext cx="743040" cy="49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1114560" y="2757240"/>
            <a:ext cx="76176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980640" y="2286000"/>
            <a:ext cx="468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1840" y="3664080"/>
            <a:ext cx="6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mh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.nu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(Pixia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J2K (MIT/L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24440" y="347976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6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909720" y="2930400"/>
            <a:ext cx="0" cy="116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64000" y="375588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ITF2.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460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975360" y="650880"/>
            <a:ext cx="1962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064280" y="866880"/>
            <a:ext cx="444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64280" y="1444680"/>
            <a:ext cx="444600" cy="0"/>
          </a:xfrm>
          <a:prstGeom prst="line">
            <a:avLst/>
          </a:prstGeom>
          <a:ln w="93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64280" y="1739880"/>
            <a:ext cx="444600" cy="0"/>
          </a:xfrm>
          <a:prstGeom prst="line">
            <a:avLst/>
          </a:prstGeom>
          <a:ln w="2844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549560" y="696960"/>
            <a:ext cx="13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ventional file xf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FTP, HTTP, email, etc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48840" y="1274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reaming file xf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UDP, ???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48480" y="1608120"/>
            <a:ext cx="1038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spera file xfer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081920" y="1905120"/>
            <a:ext cx="407880" cy="168120"/>
          </a:xfrm>
          <a:prstGeom prst="rect">
            <a:avLst/>
          </a:prstGeom>
          <a:solidFill>
            <a:srgbClr val="ccffcc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81920" y="2157480"/>
            <a:ext cx="407880" cy="168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62880" y="1874880"/>
            <a:ext cx="117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GA Responsibil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62880" y="2127240"/>
            <a:ext cx="134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JFCOM Responsi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72200" y="2443320"/>
            <a:ext cx="408240" cy="168120"/>
          </a:xfrm>
          <a:prstGeom prst="rect">
            <a:avLst/>
          </a:prstGeom>
          <a:solidFill>
            <a:srgbClr val="d1d1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53520" y="2413080"/>
            <a:ext cx="132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H PM Responsibility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61240" y="28116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64280" y="1152360"/>
            <a:ext cx="444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50280" y="982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nual disk xfers (“sneaker-net”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71440" y="363600"/>
            <a:ext cx="4041000" cy="276480"/>
            <a:chOff x="271440" y="363600"/>
            <a:chExt cx="4041000" cy="276480"/>
          </a:xfrm>
        </p:grpSpPr>
        <p:grpSp>
          <p:nvGrpSpPr>
            <p:cNvPr id="252" name=""/>
            <p:cNvGrpSpPr/>
            <p:nvPr/>
          </p:nvGrpSpPr>
          <p:grpSpPr>
            <a:xfrm>
              <a:off x="271440" y="395280"/>
              <a:ext cx="244800" cy="231120"/>
              <a:chOff x="271440" y="395280"/>
              <a:chExt cx="244800" cy="231120"/>
            </a:xfrm>
          </p:grpSpPr>
          <p:sp>
            <p:nvSpPr>
              <p:cNvPr id="253" name=""/>
              <p:cNvSpPr/>
              <p:nvPr/>
            </p:nvSpPr>
            <p:spPr>
              <a:xfrm>
                <a:off x="324000" y="433440"/>
                <a:ext cx="14760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271440" y="3952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516960" y="363600"/>
              <a:ext cx="379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T/LL-processed, JPEG2000, Conventional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71440" y="1041480"/>
            <a:ext cx="4657680" cy="276480"/>
            <a:chOff x="271440" y="1041480"/>
            <a:chExt cx="4657680" cy="276480"/>
          </a:xfrm>
        </p:grpSpPr>
        <p:grpSp>
          <p:nvGrpSpPr>
            <p:cNvPr id="257" name=""/>
            <p:cNvGrpSpPr/>
            <p:nvPr/>
          </p:nvGrpSpPr>
          <p:grpSpPr>
            <a:xfrm>
              <a:off x="271440" y="1065240"/>
              <a:ext cx="244800" cy="231120"/>
              <a:chOff x="271440" y="1065240"/>
              <a:chExt cx="244800" cy="231120"/>
            </a:xfrm>
          </p:grpSpPr>
          <p:sp>
            <p:nvSpPr>
              <p:cNvPr id="258" name=""/>
              <p:cNvSpPr/>
              <p:nvPr/>
            </p:nvSpPr>
            <p:spPr>
              <a:xfrm>
                <a:off x="324000" y="1103400"/>
                <a:ext cx="14760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71440" y="106524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514800" y="1041480"/>
              <a:ext cx="441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T/LL-processed, Pixia-encoded (.nui), Conventional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71440" y="1379520"/>
            <a:ext cx="4124160" cy="276480"/>
            <a:chOff x="271440" y="1379520"/>
            <a:chExt cx="4124160" cy="276480"/>
          </a:xfrm>
        </p:grpSpPr>
        <p:grpSp>
          <p:nvGrpSpPr>
            <p:cNvPr id="262" name=""/>
            <p:cNvGrpSpPr/>
            <p:nvPr/>
          </p:nvGrpSpPr>
          <p:grpSpPr>
            <a:xfrm>
              <a:off x="271440" y="1403280"/>
              <a:ext cx="244800" cy="231120"/>
              <a:chOff x="271440" y="1403280"/>
              <a:chExt cx="244800" cy="231120"/>
            </a:xfrm>
          </p:grpSpPr>
          <p:sp>
            <p:nvSpPr>
              <p:cNvPr id="263" name=""/>
              <p:cNvSpPr/>
              <p:nvPr/>
            </p:nvSpPr>
            <p:spPr>
              <a:xfrm>
                <a:off x="324000" y="1446480"/>
                <a:ext cx="14760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71440" y="14032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517680" y="1379520"/>
              <a:ext cx="387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T/LL-processed, Pixia-encoded (.nui), Isilon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71440" y="2736720"/>
            <a:ext cx="3978720" cy="276480"/>
            <a:chOff x="271440" y="2736720"/>
            <a:chExt cx="3978720" cy="276480"/>
          </a:xfrm>
        </p:grpSpPr>
        <p:grpSp>
          <p:nvGrpSpPr>
            <p:cNvPr id="267" name=""/>
            <p:cNvGrpSpPr/>
            <p:nvPr/>
          </p:nvGrpSpPr>
          <p:grpSpPr>
            <a:xfrm>
              <a:off x="271440" y="2760480"/>
              <a:ext cx="244800" cy="231120"/>
              <a:chOff x="271440" y="2760480"/>
              <a:chExt cx="244800" cy="231120"/>
            </a:xfrm>
          </p:grpSpPr>
          <p:sp>
            <p:nvSpPr>
              <p:cNvPr id="268" name=""/>
              <p:cNvSpPr/>
              <p:nvPr/>
            </p:nvSpPr>
            <p:spPr>
              <a:xfrm>
                <a:off x="324000" y="2798640"/>
                <a:ext cx="14760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71440" y="27604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8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516960" y="2736720"/>
              <a:ext cx="373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ixia-processed, Pixia-encoded (.nui), Isilon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271440" y="701640"/>
            <a:ext cx="3507840" cy="276480"/>
            <a:chOff x="271440" y="701640"/>
            <a:chExt cx="3507840" cy="276480"/>
          </a:xfrm>
        </p:grpSpPr>
        <p:grpSp>
          <p:nvGrpSpPr>
            <p:cNvPr id="272" name=""/>
            <p:cNvGrpSpPr/>
            <p:nvPr/>
          </p:nvGrpSpPr>
          <p:grpSpPr>
            <a:xfrm>
              <a:off x="271440" y="725760"/>
              <a:ext cx="244800" cy="231120"/>
              <a:chOff x="271440" y="725760"/>
              <a:chExt cx="244800" cy="231120"/>
            </a:xfrm>
          </p:grpSpPr>
          <p:sp>
            <p:nvSpPr>
              <p:cNvPr id="273" name=""/>
              <p:cNvSpPr/>
              <p:nvPr/>
            </p:nvSpPr>
            <p:spPr>
              <a:xfrm>
                <a:off x="319320" y="763920"/>
                <a:ext cx="14760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71440" y="72576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"/>
            <p:cNvSpPr/>
            <p:nvPr/>
          </p:nvSpPr>
          <p:spPr>
            <a:xfrm>
              <a:off x="520200" y="701640"/>
              <a:ext cx="325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T/LL-processed, JPEG2000, Isilon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71440" y="1719360"/>
            <a:ext cx="3895560" cy="276480"/>
            <a:chOff x="271440" y="1719360"/>
            <a:chExt cx="3895560" cy="276480"/>
          </a:xfrm>
        </p:grpSpPr>
        <p:grpSp>
          <p:nvGrpSpPr>
            <p:cNvPr id="277" name=""/>
            <p:cNvGrpSpPr/>
            <p:nvPr/>
          </p:nvGrpSpPr>
          <p:grpSpPr>
            <a:xfrm>
              <a:off x="271440" y="1743480"/>
              <a:ext cx="244800" cy="231120"/>
              <a:chOff x="271440" y="1743480"/>
              <a:chExt cx="244800" cy="231120"/>
            </a:xfrm>
          </p:grpSpPr>
          <p:sp>
            <p:nvSpPr>
              <p:cNvPr id="278" name=""/>
              <p:cNvSpPr/>
              <p:nvPr/>
            </p:nvSpPr>
            <p:spPr>
              <a:xfrm>
                <a:off x="324000" y="1781640"/>
                <a:ext cx="14760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71440" y="174348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516240" y="1719360"/>
              <a:ext cx="3650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ixia-processed, JPEG2000, Conventional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71440" y="2057400"/>
            <a:ext cx="3362400" cy="276480"/>
            <a:chOff x="271440" y="2057400"/>
            <a:chExt cx="3362400" cy="276480"/>
          </a:xfrm>
        </p:grpSpPr>
        <p:grpSp>
          <p:nvGrpSpPr>
            <p:cNvPr id="282" name=""/>
            <p:cNvGrpSpPr/>
            <p:nvPr/>
          </p:nvGrpSpPr>
          <p:grpSpPr>
            <a:xfrm>
              <a:off x="271440" y="2081160"/>
              <a:ext cx="244800" cy="231120"/>
              <a:chOff x="271440" y="2081160"/>
              <a:chExt cx="244800" cy="231120"/>
            </a:xfrm>
          </p:grpSpPr>
          <p:sp>
            <p:nvSpPr>
              <p:cNvPr id="283" name=""/>
              <p:cNvSpPr/>
              <p:nvPr/>
            </p:nvSpPr>
            <p:spPr>
              <a:xfrm>
                <a:off x="324000" y="2119320"/>
                <a:ext cx="14760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71440" y="208116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519480" y="2057400"/>
              <a:ext cx="311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ixia-processed, JPEG2000, Isilon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271440" y="2397240"/>
            <a:ext cx="4512240" cy="276480"/>
            <a:chOff x="271440" y="2397240"/>
            <a:chExt cx="4512240" cy="276480"/>
          </a:xfrm>
        </p:grpSpPr>
        <p:grpSp>
          <p:nvGrpSpPr>
            <p:cNvPr id="287" name=""/>
            <p:cNvGrpSpPr/>
            <p:nvPr/>
          </p:nvGrpSpPr>
          <p:grpSpPr>
            <a:xfrm>
              <a:off x="271440" y="2421000"/>
              <a:ext cx="244800" cy="231120"/>
              <a:chOff x="271440" y="2421000"/>
              <a:chExt cx="244800" cy="231120"/>
            </a:xfrm>
          </p:grpSpPr>
          <p:sp>
            <p:nvSpPr>
              <p:cNvPr id="288" name=""/>
              <p:cNvSpPr/>
              <p:nvPr/>
            </p:nvSpPr>
            <p:spPr>
              <a:xfrm>
                <a:off x="324000" y="2459160"/>
                <a:ext cx="147600" cy="152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71440" y="2421000"/>
                <a:ext cx="244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>
              <a:off x="514080" y="2397240"/>
              <a:ext cx="426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ixia-processed, Pixia-encoded (.nui), Conventional Stor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4T17:05:38Z</dcterms:created>
  <dc:creator>srs.user</dc:creator>
  <dc:description/>
  <dc:language>en-US</dc:language>
  <cp:lastModifiedBy>srs.user</cp:lastModifiedBy>
  <dcterms:modified xsi:type="dcterms:W3CDTF">2008-08-05T12:38:21Z</dcterms:modified>
  <cp:revision>70</cp:revision>
  <dc:subject/>
  <dc:title>Slide 1</dc:title>
</cp:coreProperties>
</file>